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52E-2A97-43EE-8160-AAA841E2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512-5894-47F7-ABDC-617B588D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D2A35-52A7-43EC-91EF-58280AA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DCCCE-2315-47B3-8875-C50376D7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75F29-D1AB-4B8B-A27C-CBE11FB6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46485-EE73-442A-A6EA-DF84001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58C01-C9C4-4F20-8FBC-6EE02A3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E0756-0BF6-4295-8CC0-1BDA950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2F9A5-0D60-441A-A242-BCB05DB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4E511-EA57-4178-B82B-25094DD4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88725-8526-4027-9EAD-EFFFD64F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E2CB0-2060-433B-8712-DE56A3E5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094-BD03-42B6-9643-C2E1D582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25224-3593-4081-B082-2219BE92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A14AB-2B5D-4047-A38D-986D0C1A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0B743-3CC0-4FF9-9FD3-9DB7A206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BE041-16E1-4373-8596-5AD54780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A2C2A-9DAA-4D8C-9C5C-9B72CCCB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FA140-669E-46A7-9CA6-C2E58721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93681-2772-469F-A8C8-110B42B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92689-B261-49DE-B9AE-A573E05E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2D743-0B3D-4567-90EB-8C921DF6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69B08-675F-4FB9-8050-298A5079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764-BEE7-49AA-A97D-32F92D3A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78BF1-C4EA-4228-BC4C-75CFAC6E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C2866-D7B1-4CA8-9D3E-FFAEF88C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DACD3-D9F1-45C7-9EC9-F2B254BD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8B99-B455-4FBD-AE23-CAC59917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42C95-AD66-42DD-828A-7A270656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3EF3E-CF4B-4BC0-965E-DC921D70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5C484-72E5-4F75-8E8C-9E60EE12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C88E8-CBD9-4EF4-8421-56B996C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B1727-68E1-4643-AD09-D1CA89BF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A8CF4-E09C-468C-9778-024FDFD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CE4F-1D81-468C-BEEB-892D5700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38A25-19D1-4F60-AC37-0F27610E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16836-3C54-442D-8A51-4F8BBCFD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D30D7-D812-44FF-A710-380FB874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25824-C00D-4167-AD8A-D32832C2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8756C-D816-4E05-884A-0CD748DC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23F2B-095E-47F4-B9F8-37538C16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F6EB9-961B-485B-898A-743C87D0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530B3-6D8C-46BF-BBBB-C853D11E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15A2C-4EE2-4EAE-A0BE-3DD30B4A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06994-3D1E-4C7D-8B9F-9F02AC7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62AB-E569-4E7C-917B-0114F00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76107-CEF8-45A0-9729-7F8FD630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5709A-16C0-4149-9570-AEEAD44A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33D97-6CAB-49B6-888A-20D09351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9E896-3A86-444D-89DB-6104DC03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9BBE7-7245-48BC-A8F0-C8436B79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E0DD3-889B-4157-8056-66FD6FCB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14985-BC59-4DFC-91BD-8C21D820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947EE-099C-45C1-BA48-427A90B8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EC410-10AA-44B8-A491-D732B3BC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6C102-E01D-4688-A51E-F8700876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7C0A-973E-4E66-B55A-B30796D8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C9C71-F02E-4FBF-91D1-7360EFD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0A979-D15E-4714-8196-D0FE0E42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F9413-3997-4710-8C9C-4839A3E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7B86E-B09B-4632-B7E1-115BADA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8DC1C-71B1-4D15-8825-1E0E9A4F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168D2-3A6B-41C7-8F2A-C09E6AF1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D6902-F30F-4CA4-8919-A4A28697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A9130-93BC-451C-943A-C5D774CB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45CD6-702F-46DB-AD74-02FCB07A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795CE-7230-4FCB-84C9-1FCF769F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547C-1556-4D9F-8CC2-3DA509FF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CA896-997A-40D4-A606-36553350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509F7-BD22-41BF-AF2B-34DAA45E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C3A8B-FD88-4104-AA13-8A40D417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36779-20AE-4A10-B756-A553D9F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0FD5E-E9C0-4BF4-8FF3-98A8511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DD38E-A24B-4F89-9A10-81077AA3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876A9-57EB-493E-86FE-74970176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E04DC-5D1D-4639-9D26-1BF3C226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EDA48-2014-4111-B910-1DFADCA2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DD67A-219B-41F3-A946-EE6564BD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10EB-6CB0-4B57-9E46-C6C7E758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6E3C6-B37B-454E-99E1-2AC8F5F3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C37EE-314E-4820-AC65-C700D82A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19EA3-E8A4-4BB1-BD6E-AF771A02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970DD-4BC5-4130-B4F0-3F8C384E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0E065-3DBE-4569-86AA-E540468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387F9-F13A-45C1-B6FB-D0CADC8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7C459-B88C-439D-AEDA-BA0EA35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96A7C-BEF6-4FF5-80E4-6C4879B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AA2F8-0876-48D7-993F-8519FEF3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2A2E0-19B8-4201-B157-8FD48D30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ABED-A102-40AB-A035-3EB7FD14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44872-DD43-44FF-BE9D-F09AFB0F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5BA88-B22B-4932-B97A-325A38E3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A26AF-A9DE-4C6D-9BB1-D62F997F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163FB-24E1-41FF-92CB-807B83E2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34E6A-5F3F-48C2-91D4-D5E784A9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76610-4DF0-4206-BB85-1D5DCCB3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4B442-CA14-48A3-B1FC-E9AF7D03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0ADCC-AE76-40BA-BF14-3D74936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F1443-9FD8-4388-8902-CF90F5C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EC0E2-FED0-47DB-A05F-6EA91965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3456-2470-4237-8D3F-CE78BD6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9FE67-5CB4-46F3-ACAB-B5D2C590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E9979-E60A-495B-9859-928B6974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2CF51-799B-4C74-A3A1-1BFD2FAE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142DD-DDE1-4CF2-AF78-E1109CD6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A4524-E585-40B5-8AF0-7D1BE184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663E5-A6A0-44FD-914E-2AFC09AB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B931F-FB42-41D7-B31C-FCA771AB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33DB4-0B1E-4E9E-A160-1B2CD7BB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54CDB-8A8F-4EE1-9F63-C817C594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EB786-DE5E-4A86-B622-A7287AAD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711-DBDD-4ED4-BE45-7FB1E360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5521-AD21-4630-966D-265AD4C1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5DB8E-1D25-48EE-8370-4374862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740CD-DC7B-450E-8957-16BBFD4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C4BAC-764A-43C7-A123-B6D79A04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2F3FC-2905-41A2-B700-91DB8514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2E049-5BEB-47D7-9AD5-09E3132C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49161-503A-4410-9217-7645D5A3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64276-086C-4A3D-86E7-8A3EE17E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5AA8D-34E8-4BB5-91F3-EEE23FC1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42B6B-3085-4289-BD43-D2DB0422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A857E-5610-4BEE-9689-C47F7DA9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1551-9781-43D4-BD6B-B595CF47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FEAD2-573E-4D8A-898F-57293E34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C7AF3-A520-4AA8-B689-9BA1BEF3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268D1-16CC-4145-836F-0DC53F0B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33DD7-FB1F-43D7-89CB-B094FE9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9E0E5-E89E-47C8-BF08-2D838CCE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AC5B9-69A5-4B75-BC2B-16C5A2FE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217C7-DDFF-46B6-BA6C-C4E9346F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636F7-FFF7-4DA7-83AF-AE4C55E9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67987-B52A-4046-9D37-B897437E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32EC8-355F-43F2-A501-F354104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4DC-DFFC-47D6-8497-CE6FFD61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9A35F-384B-43C5-97FC-C0F33DBA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E37B2-734F-4179-AFF5-A04F2AAA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68896-915B-45B4-BFBC-39289EBD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A713C-9275-4A97-B482-40F97AE5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9D3AB-7B2D-4D55-B547-A331DFB0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B7B06-5773-4D25-8371-5DE112C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28B6B-18B1-45A6-87EF-8B305AA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804850-AD30-42F2-BE8D-C298661A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731ED1-EC62-457E-B023-B950B716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5AEA4-A069-42B3-835D-356C8046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319D-4A7D-481B-900A-2CD0A839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27550-65B5-4E69-A537-B68D32ED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0EB49-FE8A-4B72-B724-4ECA664B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72B01-C7A1-42E8-A608-7C8BF2FA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E0174-5D96-4294-A6EA-52B46323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2044E-3160-4470-BB25-80274057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7EB0D7-7BEB-44B8-8DD3-5A64CA2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7304E-1368-4D62-94C5-234D69E9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A305BF-7961-4F50-9637-A86D64EF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43449-1817-441C-9EC9-18E07057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5A27E-26DC-4F29-A4EF-7809FD8F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BC0E-69A0-4C59-B838-83B3C8EA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C787D2-EBC4-4D10-A5E6-829B6FC3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2B5DE-A8AB-45C9-B515-1845132B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04CC8-08F9-4B73-8F61-57634D24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4DDCAF-6F9D-4122-A432-06404215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31810-B9C8-443C-A0D4-9328A8F3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9E5972-D178-4EEE-885A-B74AB4DB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BB7933-8336-4DD6-B1CA-E697711E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D49AA7-DEE6-4099-A7D7-B3CDAA5D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A18F16-0E0B-4E40-A09A-3AF5606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4D272-DF63-49FA-AB62-D2E94F01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5CB0-39F5-4915-9955-37DC1374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C38C7-83B8-4F93-87BA-734F0960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CEAF0-22FC-4F69-8A31-5176862A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6B280-4D2B-46B1-83EF-EF020173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9342-DC75-447D-A313-E16F3449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E878-3106-4C4B-BA60-9F18257C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5D7D-98F0-4A41-B51D-E9525BAB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4B7E-8CBC-43EB-B4CD-D1F912F0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4CE-C72E-4C24-AD15-64C6885C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487C-EA9C-4DF8-AFA5-F0851668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65FA-5987-4B1B-B2C2-A1E7D111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86C7-8BF2-46D0-886D-CCA96678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FE39-CC48-4142-AE36-4A02DA9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AB75-6EF3-4E51-9AB5-22D0FD42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4616-274D-422C-87BE-05FC4B16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7BE1-177F-418D-8049-B738C452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522C8-50AD-4090-9F92-AAD83A27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4008-F733-4ED8-8E03-64AC0733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A667-7F07-43D5-9691-727037DF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C26-4CA9-492C-A4E8-A0CD95BF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EF90-3276-49B1-BD12-DC54A124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025A-97CF-43CF-A28A-3E704AA4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2928D-2371-49BE-9613-FB6D382D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9941E-16A6-4772-BB55-99512ED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F698-FEAE-42F7-B3FD-41AF2CAC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4BAF4-C34D-4980-8AC4-E4FAC16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BAF1-B1BB-4F05-B495-12D63384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C9F7-97A9-4F44-BDFD-0FCA2EFD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5C88-49C2-494A-A432-F0CA11A8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416F-31AB-42DE-A157-BA983D31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449-3585-4ACD-8CEA-CD61014E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868F-090E-4D8B-A1DC-D5824C6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FFE9A-ED64-47D5-B8C4-DFA06EAD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2CE1-AA21-423E-82E7-39E3915E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2F7E-A392-4735-A3DF-A613051D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ABAFD-7777-4E20-B774-444A05A7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53B4E-E3AC-4CA0-9491-ED2EAC1A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E1963-7585-4972-8563-5EEBB6BD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C1DF-EB89-4380-8A5B-A5FE7353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B8B96-FBE3-4CD1-862F-2FA5905E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A4FAC-A29F-42DD-A6AD-6524AA2E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2B6-CA2A-439A-A68F-EC67C55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FDBF-3BE4-4A18-9613-D964C654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36AF4-E2FA-4E17-8C6B-3A7D9B1D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C5CEE-A6EA-428D-BBB3-84DE6A97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D8B2E-6204-45A1-BE64-590132C5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1CF41-8B3C-4624-A886-BA47F19A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507F8-BEE8-40A2-BAE3-4ABA5907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9A681-1E90-4F5C-9353-BB66C355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C02C-AB2C-40F3-90D9-ED0E13E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BD0BE-C457-4741-8985-B77DFAC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AC5CD-0DF6-4448-8D0C-A2A332D6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EDE-5E7E-45AD-94D8-874506B9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CE6E3-CD1E-405A-A59A-78277716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38DF2-C821-47B9-B090-42A4E6B2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3FD6A-EE81-4689-885B-EC347700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49625-8048-4C3D-AEEC-78CA832B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11AEA-2AE2-42BD-B6D1-813DEC67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1BAA-E287-44EE-8B93-E78C3E23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8698C-1247-4352-B396-8C9A7825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8BB51-9248-49B5-A6A5-92B47911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FCF0F-2BBA-44BF-9B89-BF1AD4E6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3266-47FF-4ABB-9830-546DBBC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6E7-E820-4E99-B9A9-7F1360F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D7278-58C9-4CC6-AB37-65FEF07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AD76F-5D46-4798-BFC6-985BB61A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A60D-BC89-4143-BBB4-4979651B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FEE0F-27BF-471C-97CB-7B99A393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AF56-C9D8-4961-B8D3-A6285F2D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00B7F-5E59-48FA-8CC4-645BC51E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73CFE-6672-4105-B9B9-901E390F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AEC67-8458-4405-8330-EE5B13D1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FE2CD-E05A-42F0-BF69-85E8C0AC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ED40F-32F8-4B54-BEAD-0FF37697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8E7-EAAC-4A17-A930-D7BA376A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48A3B-C240-453D-9ED2-D050E8EF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8EBDD-E0A3-4ED3-A30A-8E52D67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54C8-A7B4-417D-B8DD-E0455377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F6F7D-F7CE-4033-A9A6-2BEA12D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166A7-9AF1-4CE2-9A02-1EF0F15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AC872-0614-4E1D-9C55-D5C58A11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FF61F-BB40-4DB3-84CB-84D9F336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E8DF2-B3A4-48E0-88CF-1DCB584B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557D5-0878-47A9-9433-8BB6AF20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9B69B-80D4-4F5E-BDC4-6ED87B55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89DB-66A6-4307-97BD-96012BC97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F109-D367-4088-B243-3A1AF08CD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473E-3501-4402-9BF3-5FE2C0B001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A540-326E-4484-981B-5B6341961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0C47-0E4C-4A07-8F74-31FDF50CBF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5506-E6BC-4A4D-99B8-7762942E7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6CE3-D427-4526-9018-A4F9CC4DA2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B2E0-D4B4-4CDA-A51B-2852D68A7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4BEF-373D-413B-B1A9-0230E7C76F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0D04-E75A-4E64-AE77-4DA83301A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5957-0257-48CB-8F3A-3CC670603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A129-CB24-48EC-842F-3B92E5399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AC63-79D9-4317-846D-A7555E66C1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2662-BA41-4207-ADA7-860F8EAE18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E74-4A7A-42F3-A01B-AF43A6C45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84B2-D6A1-49B3-8FF9-A5F51FD35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5F17-CFED-4FD5-9107-934E07DCAC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CAE1-5CAA-47A4-A93B-975858086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605B-983D-44D2-8A97-10A794DE01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A994-9605-4FCA-B185-FF38F9E08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9AEE-98D6-4CCB-AD4F-97EB0B40F8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DEDE-1581-4571-87E4-73C59932E5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3778-26FD-431A-A859-EF6538E0D9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41B1-B6FE-40D9-8F42-6C5B67168D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96F-06C5-4CA7-A1AE-4A01C6B7A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E39-F30D-4BB4-BE52-EB9FB8A0C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4B0B-EE78-4367-822D-A48857A26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A8D2-5E21-4854-AA54-8AF0B0EAC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FC60-E1EC-4097-86AB-44016A9E7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75E4-46FC-488E-AAF9-477529555B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9ED9-BCD8-4D0F-A460-6F665BD5E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7D75-6425-4A88-A910-E8D49964AC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8F86-1327-4273-930F-FAFC4FB29E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5202-1C87-4950-9A99-17CBD438EE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6042-2C5E-483D-AC52-652F23CFBE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D0E6-01BA-48B4-AF9E-B791C852F9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E0E9-89B5-4A86-8898-19C980C7E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BFA3-BADC-452E-9ECD-C307189D90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306B-B82C-4DBF-A069-873F5B05A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C284-A5EE-4833-96C2-2E9BFCC4C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33520" y="3038400"/>
            <a:ext cx="44769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41400" y="1419120"/>
            <a:ext cx="9061200" cy="4019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050920" y="278136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48360" y="2781360"/>
            <a:ext cx="93636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7821720" y="2781360"/>
            <a:ext cx="93636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692360" y="342900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500720" y="3429000"/>
            <a:ext cx="936360" cy="293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7885080" y="342900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826920" y="51134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2411280" y="51134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3995640" y="5157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5867280" y="5157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7524720" y="5157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2" name="组合 5123"/>
          <p:cNvGrpSpPr/>
          <p:nvPr/>
        </p:nvGrpSpPr>
        <p:grpSpPr>
          <a:xfrm>
            <a:off x="52560" y="1484280"/>
            <a:ext cx="9037440" cy="3751200"/>
            <a:chOff x="52560" y="1484280"/>
            <a:chExt cx="9037440" cy="3751200"/>
          </a:xfrm>
        </p:grpSpPr>
        <p:pic>
          <p:nvPicPr>
            <p:cNvPr id="1043" name="图片 1" descr=""/>
            <p:cNvPicPr/>
            <p:nvPr/>
          </p:nvPicPr>
          <p:blipFill>
            <a:blip r:embed="rId1"/>
            <a:stretch/>
          </p:blipFill>
          <p:spPr>
            <a:xfrm>
              <a:off x="52560" y="1622520"/>
              <a:ext cx="9037440" cy="36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Picture 1" descr=""/>
            <p:cNvPicPr/>
            <p:nvPr/>
          </p:nvPicPr>
          <p:blipFill>
            <a:blip r:embed="rId2"/>
            <a:stretch/>
          </p:blipFill>
          <p:spPr>
            <a:xfrm>
              <a:off x="4572000" y="1484280"/>
              <a:ext cx="360360" cy="32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755640" y="2689200"/>
            <a:ext cx="360360" cy="230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755640" y="3006720"/>
            <a:ext cx="360360" cy="230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755640" y="3348000"/>
            <a:ext cx="360360" cy="230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826920" y="3654360"/>
            <a:ext cx="360360" cy="230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826920" y="3995640"/>
            <a:ext cx="360360" cy="230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755640" y="4292640"/>
            <a:ext cx="360360" cy="230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755640" y="4591080"/>
            <a:ext cx="360360" cy="277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826920" y="4941720"/>
            <a:ext cx="3603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547560" y="1938240"/>
            <a:ext cx="80470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17360" y="2419200"/>
            <a:ext cx="8963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8:0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